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4F3AA-173D-4860-BA6E-652F8A3C6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70720-9CC1-456D-9A87-7667E1B8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47B4C-585D-43FB-A242-086FD8866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D825-49C3-40AA-A7AF-3B8F9160C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6BFD9-244C-491B-96A3-87727DB8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9A9D7-5D3B-42B5-A8B2-41BFEB90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C5D7F-9CEA-4E90-96B2-D7E8610F7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F5763-AA04-4799-A697-B2B0E070E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82D91-9007-483F-A562-F996B211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61964-0AA8-4010-977C-7A650FED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7D52-CE5B-4E80-9766-D0352808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3B6E-9289-44CE-A5E8-99564BDD6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BAEB-6792-4D80-BE05-50523CD3A7A4}"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353880" y="42840"/>
            <a:ext cx="8369280" cy="1773360"/>
          </a:xfrm>
          <a:prstGeom prst="rect">
            <a:avLst/>
          </a:prstGeom>
          <a:ln w="0">
            <a:noFill/>
          </a:ln>
        </p:spPr>
      </p:pic>
      <p:sp>
        <p:nvSpPr>
          <p:cNvPr id="42" name="TextBox 5"/>
          <p:cNvSpPr/>
          <p:nvPr/>
        </p:nvSpPr>
        <p:spPr>
          <a:xfrm>
            <a:off x="571680" y="1643040"/>
            <a:ext cx="3786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ttp://loveandgrace.files.wordpress.com/2007/11/350px-st_basils_cathedral-500px.jpg</a:t>
            </a:r>
            <a:endParaRPr b="0" lang="en-US" sz="1600" spc="-1" strike="noStrike">
              <a:solidFill>
                <a:srgbClr val="000000"/>
              </a:solidFill>
              <a:latin typeface="Arial"/>
            </a:endParaRPr>
          </a:p>
        </p:txBody>
      </p:sp>
      <p:sp>
        <p:nvSpPr>
          <p:cNvPr id="43" name="TextBox 6"/>
          <p:cNvSpPr/>
          <p:nvPr/>
        </p:nvSpPr>
        <p:spPr>
          <a:xfrm>
            <a:off x="428760" y="2714760"/>
            <a:ext cx="40003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Basil's was built to commemorate the capture of the Tatar stronghold of Kazan in 1552, which occurred on the Feast of the Intercession of the Virgin. The cathedral was thus officially named </a:t>
            </a:r>
            <a:r>
              <a:rPr b="1" lang="en-US" sz="1400" spc="-1" strike="noStrike">
                <a:solidFill>
                  <a:srgbClr val="000000"/>
                </a:solidFill>
                <a:latin typeface="Arial"/>
              </a:rPr>
              <a:t>Cathedral of the Intercession of the Virgin by the Moat</a:t>
            </a:r>
            <a:r>
              <a:rPr b="0" lang="en-US" sz="1400" spc="-1" strike="noStrike">
                <a:solidFill>
                  <a:srgbClr val="000000"/>
                </a:solidFill>
                <a:latin typeface="Arial"/>
              </a:rPr>
              <a:t> (the moat being one that originally ran beside the Kreml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 cathedral was popularly known as St. Basil's Cathedral, after </a:t>
            </a:r>
            <a:r>
              <a:rPr b="1" lang="en-US" sz="1400" spc="-1" strike="noStrike">
                <a:solidFill>
                  <a:srgbClr val="000000"/>
                </a:solidFill>
                <a:latin typeface="Arial"/>
              </a:rPr>
              <a:t>St. Basil the Blessed</a:t>
            </a:r>
            <a:r>
              <a:rPr b="0" lang="en-US" sz="1400" spc="-1" strike="noStrike">
                <a:solidFill>
                  <a:srgbClr val="000000"/>
                </a:solidFill>
                <a:latin typeface="Arial"/>
              </a:rPr>
              <a:t> (a.k.a. St. Basil Fool for Christ; 1468-1552), almost from the beginning. Basil impressed Ivan in 1547 when he foretold a fire that swept through Moscow that year. Upon his death, Basil was buried in the Trinity Cathedral that stood on this site at the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4" name="Picture 5" descr="http://loveandgrace.files.wordpress.com/2007/11/350px-st_basils_cathedral-500px.jpg"/>
          <p:cNvPicPr/>
          <p:nvPr/>
        </p:nvPicPr>
        <p:blipFill>
          <a:blip r:embed="rId2"/>
          <a:stretch/>
        </p:blipFill>
        <p:spPr>
          <a:xfrm>
            <a:off x="5000760" y="1643040"/>
            <a:ext cx="3333600" cy="42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Users\20697\Pictures\DLL sketchup project\10242613-taj-mahal-india.jpg"/>
          <p:cNvPicPr/>
          <p:nvPr/>
        </p:nvPicPr>
        <p:blipFill>
          <a:blip r:embed="rId1"/>
          <a:stretch/>
        </p:blipFill>
        <p:spPr>
          <a:xfrm>
            <a:off x="4572000" y="1700280"/>
            <a:ext cx="4286160" cy="3371760"/>
          </a:xfrm>
          <a:prstGeom prst="rect">
            <a:avLst/>
          </a:prstGeom>
          <a:ln w="0">
            <a:noFill/>
          </a:ln>
        </p:spPr>
      </p:pic>
      <p:sp>
        <p:nvSpPr>
          <p:cNvPr id="46" name="TextBox 5"/>
          <p:cNvSpPr/>
          <p:nvPr/>
        </p:nvSpPr>
        <p:spPr>
          <a:xfrm>
            <a:off x="2428920" y="357120"/>
            <a:ext cx="350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aj Mahal</a:t>
            </a:r>
            <a:endParaRPr b="0" lang="en-US" sz="5400" spc="-1" strike="noStrike">
              <a:solidFill>
                <a:srgbClr val="000000"/>
              </a:solidFill>
              <a:latin typeface="Arial"/>
            </a:endParaRPr>
          </a:p>
        </p:txBody>
      </p:sp>
      <p:sp>
        <p:nvSpPr>
          <p:cNvPr id="47" name="TextBox 6"/>
          <p:cNvSpPr/>
          <p:nvPr/>
        </p:nvSpPr>
        <p:spPr>
          <a:xfrm>
            <a:off x="428760" y="1571760"/>
            <a:ext cx="35719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j Mahal is regarded as one of the eight wonders of the world, and some Western historians have noted that its architectural beauty has never been surpassed. The Taj is the most beautiful monument built by the Mughals, the Muslim rulers of India. Taj Mahal is built entirely of white marble. Its stunning architectural beauty is beyond adequate description, particularly at dawn and sunset. The Taj seems to glow in the light of the full moon. On a foggy morning, the visitors experience the Taj as if suspended when viewed from across the Jamuna river</a:t>
            </a:r>
            <a:endParaRPr b="0" lang="en-US" sz="1600" spc="-1" strike="noStrike">
              <a:solidFill>
                <a:srgbClr val="000000"/>
              </a:solidFill>
              <a:latin typeface="Arial"/>
            </a:endParaRPr>
          </a:p>
        </p:txBody>
      </p:sp>
      <p:sp>
        <p:nvSpPr>
          <p:cNvPr id="48" name="TextBox 7"/>
          <p:cNvSpPr/>
          <p:nvPr/>
        </p:nvSpPr>
        <p:spPr>
          <a:xfrm>
            <a:off x="4357800" y="5715000"/>
            <a:ext cx="45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blog.taragana.com/n/wp-content/uploads/2009/07/taj-mahal.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20697\Pictures\DLL sketchup project\german%20castle.jpg"/>
          <p:cNvPicPr/>
          <p:nvPr/>
        </p:nvPicPr>
        <p:blipFill>
          <a:blip r:embed="rId1"/>
          <a:stretch/>
        </p:blipFill>
        <p:spPr>
          <a:xfrm>
            <a:off x="4071960" y="1609560"/>
            <a:ext cx="4711680" cy="3534120"/>
          </a:xfrm>
          <a:prstGeom prst="rect">
            <a:avLst/>
          </a:prstGeom>
          <a:ln w="0">
            <a:noFill/>
          </a:ln>
        </p:spPr>
      </p:pic>
      <p:sp>
        <p:nvSpPr>
          <p:cNvPr id="50" name="TextBox 4"/>
          <p:cNvSpPr/>
          <p:nvPr/>
        </p:nvSpPr>
        <p:spPr>
          <a:xfrm>
            <a:off x="729360" y="357120"/>
            <a:ext cx="6767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b050"/>
                </a:solidFill>
                <a:latin typeface="Calibri"/>
              </a:rPr>
              <a:t>Neuschwanstein Castle</a:t>
            </a:r>
            <a:endParaRPr b="0" lang="en-US" sz="5400" spc="-1" strike="noStrike">
              <a:solidFill>
                <a:srgbClr val="000000"/>
              </a:solidFill>
              <a:latin typeface="Arial"/>
            </a:endParaRPr>
          </a:p>
        </p:txBody>
      </p:sp>
      <p:sp>
        <p:nvSpPr>
          <p:cNvPr id="51" name="TextBox 5"/>
          <p:cNvSpPr/>
          <p:nvPr/>
        </p:nvSpPr>
        <p:spPr>
          <a:xfrm>
            <a:off x="428760" y="1500120"/>
            <a:ext cx="35002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 weeks after the death of King Ludwig II in 1886, Neuschwanstein was opened to the public. The shy king had built the castle in order to withdraw from public life - now vast numbers of people came to view his private refug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 Neuschwanstein is one of the most popular of all the palaces and castles in Europe. Every year 1.3 million people visit "the castle of the fairy-tale king". In the summer around 6,000 visitors a day stream through rooms that were intended for a single inhabita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Neuschwanstein could not be more idyllic. However, movement in the foundation area has to be continuously monitored, and the sheer rock walls must be repeatedly secured. The harsh climate also has a detrimental effect on the limestone façades, which will have to be renovated section by section over the next few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TextBox 6"/>
          <p:cNvSpPr/>
          <p:nvPr/>
        </p:nvSpPr>
        <p:spPr>
          <a:xfrm>
            <a:off x="4572000" y="5572080"/>
            <a:ext cx="392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ltwis.files.wordpress.com/2008/02/neuschwanstein-castle.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www.villagila-paros.com/image/users/27036/ftp/my_files/1.jpg"/>
          <p:cNvPicPr/>
          <p:nvPr/>
        </p:nvPicPr>
        <p:blipFill>
          <a:blip r:embed="rId1"/>
          <a:stretch/>
        </p:blipFill>
        <p:spPr>
          <a:xfrm>
            <a:off x="4714920" y="1714680"/>
            <a:ext cx="4226040" cy="3109680"/>
          </a:xfrm>
          <a:prstGeom prst="rect">
            <a:avLst/>
          </a:prstGeom>
          <a:ln w="0">
            <a:noFill/>
          </a:ln>
        </p:spPr>
      </p:pic>
      <p:sp>
        <p:nvSpPr>
          <p:cNvPr id="54" name="TextBox 2"/>
          <p:cNvSpPr/>
          <p:nvPr/>
        </p:nvSpPr>
        <p:spPr>
          <a:xfrm>
            <a:off x="795960" y="642960"/>
            <a:ext cx="328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b0f0"/>
                </a:solidFill>
                <a:latin typeface="Calibri"/>
              </a:rPr>
              <a:t>Greek Villa</a:t>
            </a:r>
            <a:endParaRPr b="0" lang="en-US" sz="5400" spc="-1" strike="noStrike">
              <a:solidFill>
                <a:srgbClr val="000000"/>
              </a:solidFill>
              <a:latin typeface="Arial"/>
            </a:endParaRPr>
          </a:p>
        </p:txBody>
      </p:sp>
      <p:sp>
        <p:nvSpPr>
          <p:cNvPr id="55" name="TextBox 3"/>
          <p:cNvSpPr/>
          <p:nvPr/>
        </p:nvSpPr>
        <p:spPr>
          <a:xfrm>
            <a:off x="4857840" y="5572080"/>
            <a:ext cx="3571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villagila-paros.com/image/users/27036/ftp/my_files/1.jpg</a:t>
            </a:r>
            <a:endParaRPr b="0" lang="en-US" sz="1800" spc="-1" strike="noStrike">
              <a:solidFill>
                <a:srgbClr val="000000"/>
              </a:solidFill>
              <a:latin typeface="Arial"/>
            </a:endParaRPr>
          </a:p>
        </p:txBody>
      </p:sp>
      <p:sp>
        <p:nvSpPr>
          <p:cNvPr id="56" name="TextBox 4"/>
          <p:cNvSpPr/>
          <p:nvPr/>
        </p:nvSpPr>
        <p:spPr>
          <a:xfrm>
            <a:off x="785880" y="1857240"/>
            <a:ext cx="3643200" cy="392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of a Greek house naturally varies infinitely according to the size of the land plot, the size of the owner's family, his own taste, and wealth. It will usually be rectangular, with the narrower side toward the street; but this is not invariable. In the larger houses there will be two courts (aulæ), one behind the other, and each with its own circuit of dependent chambers. The court first entered will be the Andronitis (the Court of the Men), and may be even large enough to afford a considerable promenade for exercise. Around the whole of the open space run lines of simple columns, and above the opening swings an awning if the day is very hot. In the very center rises a small stone altar with a statue of Zeus the Protector (Zeus Herkeïos), where the father of the family will from time to time offer sacrifice, acting as the priest for the household. Probably already on the altar there has been laid a fresh garland; if not, the newcomers from the Agora have now fetched 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11:22Z</dcterms:created>
  <dc:creator>Diocesan School for Girls</dc:creator>
  <dc:description/>
  <dc:language>en-US</dc:language>
  <cp:lastModifiedBy>Diocesan School for Girls</cp:lastModifiedBy>
  <dcterms:modified xsi:type="dcterms:W3CDTF">2009-08-10T00:04:01Z</dcterms:modified>
  <cp:revision>11</cp:revision>
  <dc:subject/>
  <dc:title>Slide 1</dc:title>
</cp:coreProperties>
</file>